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939-6473-4813-86E9-2D07CFDC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A9E-F113-4588-9B44-680DA872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003-88D5-4802-88E8-5C31106C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421-6D63-4B44-B6D8-78D9A409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15EC-4188-482D-8342-46CAF40F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265F-0384-469B-ADED-9EC434C4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A17C-2BE1-42FA-A69F-5F9E40C1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82D1-7EC7-4B1D-9401-75F5105B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3B3D-ADE6-4FA0-8731-E9F25179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ED04-F453-43BB-9D4E-0F6EBE5C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20F5-A1A1-498C-8046-C8237005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C17-1B38-4FE8-B844-28A8D308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8BBF-113C-4385-8BE3-7385C217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67A4-26A0-4D77-871E-5F01D33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4C94-8B43-4D93-ABC7-E93F1B7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7102-4AA1-4BAD-8E81-EB41D0FD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FDCB-A913-4B79-9EA7-08B511AE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78B-B96B-4DFC-ADA6-BBBA2E4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B06-C73F-4197-8D9E-639CEE97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ED4-6BBA-46E1-B5A2-A2CABCD7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D74-74FD-406A-982E-E8603EA4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828-6AF8-4BF0-9213-7CF97A62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A81-E753-438E-BA11-057EFC7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C5B-749E-47B4-97EF-9152BF85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0B32-BEA5-4866-8F32-CBCEE76635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E25E-DD44-4F8C-8878-BC2581B75B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Estudio de la Aplicación de Modelos de Clase Latente a la Segmentación: caso Economax”</a:t>
            </a: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743200" y="51782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rancisco Mallea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¿Qué es el análisis de clase laten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65320" y="228600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lase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2286000"/>
            <a:ext cx="4191120" cy="703800"/>
            <a:chOff x="3657600" y="2286000"/>
            <a:chExt cx="4191120" cy="703800"/>
          </a:xfrm>
        </p:grpSpPr>
        <p:sp>
          <p:nvSpPr>
            <p:cNvPr id="168" name=""/>
            <p:cNvSpPr/>
            <p:nvPr/>
          </p:nvSpPr>
          <p:spPr>
            <a:xfrm>
              <a:off x="4724280" y="2286000"/>
              <a:ext cx="312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sificar objetos simila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5146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57600" y="3962520"/>
            <a:ext cx="4248000" cy="398880"/>
            <a:chOff x="3657600" y="3962520"/>
            <a:chExt cx="4248000" cy="398880"/>
          </a:xfrm>
        </p:grpSpPr>
        <p:sp>
          <p:nvSpPr>
            <p:cNvPr id="171" name=""/>
            <p:cNvSpPr/>
            <p:nvPr/>
          </p:nvSpPr>
          <p:spPr>
            <a:xfrm>
              <a:off x="4781520" y="39625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delo Mix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403848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Modelo Mix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2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los Mix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tos no se modelan por una sola distrib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219320" y="3124080"/>
                <a:ext cx="521640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segmento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lase Laten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 variable escondida (lat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ado de pertenencia a cada seg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lución al problema a través de modelos mixtos (multiples distribu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lema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Encotrar paráme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485784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6858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mportamiento basado en cantidad de comp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3124080"/>
          <a:ext cx="815364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81536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ewton-Raph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cas ite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ergencia no asegu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chas Iteracione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Conv. L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. asegurada por lo menos a un óptim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y sensible a los parametros de part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teraciones fáciles de progra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209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lgoritmo E-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bjetivo: Encontrar los parametros des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la función de máximoverosimil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abilidad individual de pertenencia segmento S puede ser calcu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05520" y="3255840"/>
                <a:ext cx="28191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 un ejempl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 sujetos y sus compras para un determinado produ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ienen de 2 Poissons (S=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 a 1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1 a 2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7908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81560" y="3327480"/>
                <a:ext cx="380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375080" y="332100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81680" y="3733920"/>
                <a:ext cx="81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14600" y="3772080"/>
            <a:ext cx="1143000" cy="342720"/>
          </a:xfrm>
          <a:prstGeom prst="rightArrow">
            <a:avLst>
              <a:gd name="adj1" fmla="val 50000"/>
              <a:gd name="adj2" fmla="val 83377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9080" y="4381560"/>
            <a:ext cx="1028520" cy="342720"/>
          </a:xfrm>
          <a:prstGeom prst="rightArrow">
            <a:avLst>
              <a:gd name="adj1" fmla="val 50000"/>
              <a:gd name="adj2" fmla="val 75026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96000" y="4305240"/>
                <a:ext cx="10270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0"/>
          <a:ext cx="9144000" cy="69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451640" y="835200"/>
            <a:ext cx="79236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17080" y="3357720"/>
            <a:ext cx="79200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tiv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o de teorías y su evaluación en casos práct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vas Herramientas de apoyo al Marketing: Clase L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portunidad: Caso Econom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838080" y="1982880"/>
          <a:ext cx="7772400" cy="40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288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14400" y="1949400"/>
          <a:ext cx="754380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49400"/>
                    <a:ext cx="754380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4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2133720"/>
          <a:ext cx="7162920" cy="372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16292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3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2101680"/>
          <a:ext cx="754380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1680"/>
                    <a:ext cx="754380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5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62120" y="2030400"/>
          <a:ext cx="7238880" cy="37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0"/>
                    <a:ext cx="72388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V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Tiene un fundamento estadístico dife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(se pueden combinar distribuciones simples y complic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n utilizar variables con diversas escalas (nominal, ordinal, continuo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dores estadísticos para la determinación de número de clu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s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v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nsibilidad a la elección de los valores ini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-means o utilización de varias muestras ale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estimación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méric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ualmente 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n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iv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ilización de herramientas computacionales y funciones con expresiones ana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estimadores de máxima verosimilitud (parámetros) pueden sesgarse en muestras pequeñ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goritmo EM puede llegar a óptimo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057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7672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jetivos: Interrelaciones Cruzadas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Catego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egmentos de C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atos: Datos de Panel (P.O.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Julio del año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oceso 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trucción Matriz de Disimil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as 6 variables neces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DS con matr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.A para determinar seg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.L para caracterizar catego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cusión, Implicaciones, 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os Datos Utiliz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ductos en Cana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dades Vend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echa de Comp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atos de Julio del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bjetivo Gener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ar la aplicación de modelos de clase latente como una herramienta de segmentación a un caso real (caso Economax) y su comparación con otras herramient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imer Anális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as, Varianzas, Frecuencia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s de mayor compra (inicios y finales de seman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ás de mayor compra (antes de almuerzo, fin de jornad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nto promedio cercano a los $4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 de Pago: Efectivo (99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lección de Número de Clus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orre el programa para varios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elecciona el de mejores indic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4653000"/>
            <a:ext cx="6192720" cy="165564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44520" y="4653000"/>
            <a:ext cx="6207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Outputs – Probabilidad de Membresi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326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971800" y="2151000"/>
            <a:ext cx="3790800" cy="3467160"/>
            <a:chOff x="2971800" y="2151000"/>
            <a:chExt cx="3790800" cy="3467160"/>
          </a:xfrm>
        </p:grpSpPr>
        <p:sp>
          <p:nvSpPr>
            <p:cNvPr id="245" name=""/>
            <p:cNvSpPr/>
            <p:nvPr/>
          </p:nvSpPr>
          <p:spPr>
            <a:xfrm>
              <a:off x="3124080" y="2151000"/>
              <a:ext cx="221004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400" y="2417760"/>
              <a:ext cx="228600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2684520"/>
              <a:ext cx="236232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2989440"/>
              <a:ext cx="228600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24320" y="3218040"/>
              <a:ext cx="2438280" cy="285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1800" y="3522600"/>
              <a:ext cx="106668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1800" y="4284720"/>
              <a:ext cx="106668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451332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95920" y="500868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definen cuatro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Diarias (58,27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Semanales (29,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Bisemanales o Mensuales (6,98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Ocasionales o de Emergencia (5,5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análisis lleva a un resultado más “fin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ferencias con caso Bosh M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ug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Microseg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bilidad de cambio de formato a uno de mejor servicio para sus clientes (compras diar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estrategias que permitan un mayor conocimiento del consum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ondolas Evolu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mines Consultores (1999) 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“Sector Supermercados: ¿Cómo ha Evolucionado y hacia Dónde va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 Consulting (200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Building a Category Management Capabi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Recomend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tilización de Variables Dispon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ocimiento de Te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udio de Software y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894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del, Michel &amp; Kamakura, Wagner A. (2000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Market Segmentation: Conceptual and Methodological Foundations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nternational Series in Quantitative Marketing, Vol 8. 2ª Edi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gidson, Vermunt (2003) “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ntechnical Introduction to Latent Class Mode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laer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Frank. (2002)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xpectation Maximization Algorithm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2002)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Latent Class Models for Clustering: A Comparison with K-Means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anadian Journal of Marketing Research, Volume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 (200?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Latent Class Cluster Analysis“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cal Innovation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arbo, Kamakura &amp; Wedel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Applications of Multivariate Latent Variable Models in Market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sh, Musalem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Segmenting Shoppers According to their Basket Composition: Implications for Cross-Category Managemen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utoriales Latent Gol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www.latentgol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657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upermerc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l kiosco al megamerc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Hábitos de consumid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s de Supermerc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orma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866960"/>
            <a:ext cx="7772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racterístic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stión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gístic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existencias, rot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rchandising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posición, fluj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22050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270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tegory Manag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les de variables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ncia de Inter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mplo años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209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ecesidad de Diferenc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odos son client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seg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gmentación Interio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permercad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. Servilletas de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05200" y="40006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9338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egment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epto C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volucra clientes en dec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eación de grupos de personas u organizaciones que son similares en terminos de de su respuesta al marketing mix, y por lo tanto, significativos para su planeamient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8:58:37Z</dcterms:created>
  <dc:creator>Francisco Mallea</dc:creator>
  <dc:description/>
  <dc:language>en-US</dc:language>
  <cp:lastModifiedBy>P</cp:lastModifiedBy>
  <dcterms:modified xsi:type="dcterms:W3CDTF">2004-11-04T11:36:09Z</dcterms:modified>
  <cp:revision>18</cp:revision>
  <dc:subject/>
  <dc:title>“Estudio de la Aplicación de Modelos de Clase Latente a la Segmentación: caso Economax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0300826</vt:r8>
  </property>
  <property fmtid="{D5CDD505-2E9C-101B-9397-08002B2CF9AE}" pid="3" name="_AuthorEmail">
    <vt:lpwstr>pabustos@ing.uchile.cl</vt:lpwstr>
  </property>
  <property fmtid="{D5CDD505-2E9C-101B-9397-08002B2CF9AE}" pid="4" name="_AuthorEmailDisplayName">
    <vt:lpwstr>Pablo Bustos Serrano</vt:lpwstr>
  </property>
  <property fmtid="{D5CDD505-2E9C-101B-9397-08002B2CF9AE}" pid="5" name="_EmailSubject">
    <vt:lpwstr>presentaciones</vt:lpwstr>
  </property>
</Properties>
</file>